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E7F-F7C2-466E-8D6F-A5B91C90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2F9-0034-4416-9F86-F94DB56E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A12-3940-4511-A4F8-E42345BA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A32-C929-4FE3-A585-5A75A397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760-7774-4FFF-8852-8AC40291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4CC-E4A0-4E4F-BA2C-419867BD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468-3BD8-462C-A63E-35134C1B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EB4-2511-4EDA-9AD6-9ABF3DEF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B45-AB24-430F-96E6-4AEE6CB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658-B5D2-4C40-B742-D79DBD9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3E9-F4CA-4C9E-83A3-F18F244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17F-92AB-43C2-905A-72C129D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978-E1A2-4475-A660-72FE53FE2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1: Types of Econom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2: Supply/De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3: Business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4: Managing Money &amp; Bank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pic 5: Consumer Rights &amp; Responsibiliti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667080" y="122400"/>
            <a:ext cx="7872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I: Busines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Sole 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Coo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Franch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Organized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Labor 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bor, Craft,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8160" y="320760"/>
            <a:ext cx="7310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etter Wor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llective Barg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diation, Arbi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Governm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1930-4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ocial Security Act of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National Labor Relations Act of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air Labor Standards Act of 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aft Hartley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nti-Trust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omb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onopoly, Oligop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rizontal Merger, Vertical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nglomerates &amp; M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705960" y="122400"/>
            <a:ext cx="84099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V: Managing Money &amp; B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Personal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ispo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iscre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Planning &amp; 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ome v.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redit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avings v. Checking 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7520" y="439560"/>
            <a:ext cx="8597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ivid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Mutual Fund &amp; Pension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nsuran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apital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Ban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ommercia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ime v. Demand Depo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dit v. Debi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redit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DIC (Federal Deposit Insurance Corp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oin, Currency, Checks, Legal T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10040" y="2503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454680" y="193680"/>
            <a:ext cx="7751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V: Consumer Right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Choice in spending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Consumer Bill of Rights Page 5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. Consumer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Report Faulty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Fair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Don’t Impulse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Beware of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par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29120" y="320760"/>
            <a:ext cx="6158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: Types of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Trad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mm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Karl Ma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ci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M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80880" y="1011240"/>
          <a:ext cx="8382240" cy="4835520"/>
        </p:xfrm>
        <a:graphic>
          <a:graphicData uri="http://schemas.openxmlformats.org/drawingml/2006/table">
            <a:tbl>
              <a:tblPr/>
              <a:tblGrid>
                <a:gridCol w="1623960"/>
                <a:gridCol w="1624320"/>
                <a:gridCol w="1623960"/>
                <a:gridCol w="1623960"/>
                <a:gridCol w="188604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cap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Ex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5360" y="162000"/>
            <a:ext cx="7623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: Supply &amp;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Individual v. 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Law of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Compli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1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52680" y="1752480"/>
            <a:ext cx="1295640" cy="236232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404640 h 2362320"/>
              <a:gd name="textAreaBottom" fmla="*/ 17560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02" stAng="-5400000" swAng="5400000"/>
                <a:lnTo>
                  <a:pt x="21600" y="12354"/>
                </a:lnTo>
                <a:arcTo wR="21600" hR="7402" stAng="0" swAng="1963271"/>
                <a:lnTo>
                  <a:pt x="10165" y="20729"/>
                </a:lnTo>
                <a:lnTo>
                  <a:pt x="0" y="17280"/>
                </a:lnTo>
                <a:lnTo>
                  <a:pt x="10165" y="12089"/>
                </a:lnTo>
                <a:lnTo>
                  <a:pt x="10165" y="13933"/>
                </a:lnTo>
                <a:arcTo wR="21600" hR="7402" stAng="1963271" swAng="-1547159"/>
                <a:lnTo>
                  <a:pt x="20356" y="9878"/>
                </a:lnTo>
                <a:arcTo wR="21600" hR="7402" stAng="-416112" swAng="-4983888"/>
                <a:close/>
              </a:path>
              <a:path fill="darkenLess" w="21600" h="21600">
                <a:moveTo>
                  <a:pt x="0" y="0"/>
                </a:moveTo>
                <a:arcTo wR="21600" hR="7402" stAng="-5400000" swAng="5400000"/>
                <a:lnTo>
                  <a:pt x="21600" y="12354"/>
                </a:lnTo>
                <a:arcTo wR="21600" hR="7402" stAng="0" swAng="-416112"/>
                <a:lnTo>
                  <a:pt x="20356" y="9878"/>
                </a:lnTo>
                <a:arcTo wR="21600" hR="7402" stAng="-416112" swAng="-4983888"/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4876920"/>
            <a:ext cx="4495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mand Schedu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838080"/>
            <a:ext cx="914400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2209680"/>
            <a:ext cx="1447560" cy="2438640"/>
          </a:xfrm>
          <a:custGeom>
            <a:avLst/>
            <a:gdLst>
              <a:gd name="textAreaLeft" fmla="*/ 193680 w 1447560"/>
              <a:gd name="textAreaRight" fmla="*/ 1253880 w 1447560"/>
              <a:gd name="textAreaTop" fmla="*/ 426600 h 2438640"/>
              <a:gd name="textAreaBottom" fmla="*/ 176796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62520" y="5105520"/>
            <a:ext cx="3632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mand Curv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066680"/>
            <a:ext cx="342900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762120"/>
            <a:ext cx="28699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bstitu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562720" y="762120"/>
            <a:ext cx="32763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mpli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81640" cy="2025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3505320" cy="233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139860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7120" y="380880"/>
            <a:ext cx="365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Law of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860560"/>
            <a:ext cx="72388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7600" y="360360"/>
            <a:ext cx="592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Supply &amp; Demand Compet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r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hor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quilibrium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ice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8:30:30Z</dcterms:created>
  <dc:creator>Chatham Central</dc:creator>
  <dc:description/>
  <dc:language>en-US</dc:language>
  <cp:lastModifiedBy>Chatham Central</cp:lastModifiedBy>
  <dcterms:modified xsi:type="dcterms:W3CDTF">2009-04-29T18:45:54Z</dcterms:modified>
  <cp:revision>3</cp:revision>
  <dc:subject/>
  <dc:title>Goal 8 Economics II</dc:title>
</cp:coreProperties>
</file>